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D06-441F-44DB-8F87-4DDF98C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411-C7EA-471B-98AB-901168AF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AE3-00C2-4D81-A5C9-BFAE32BE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A68-679F-448D-9EF8-CDB9E15D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BF12-6224-40C8-8CC4-94A77522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066-B281-42C5-9F2E-0C8859C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73B-CE89-45E5-9018-ADEB10C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84BB-AF83-4F18-9F1F-1335C9E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11F-6970-49FC-8CE6-399C435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1ECF-38A9-41F0-A91B-0BF5CDE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C285-1059-40A1-80A2-8A616B6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C7C-B5FF-4738-ABA4-31C1E57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D10-23A2-4994-9D00-328ED89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CB6D-4028-42B1-A83A-280D5E3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D7A-CC2C-433F-9A3D-79747DBF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92C8-0382-4C69-94DD-606E05B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180A-ED94-4D1B-9AC3-A8B9F233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504FC-A32C-4801-8467-D71854DE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D213A-4CC4-4BDA-BB4E-3E9B4D11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236A-4DC7-4280-884D-578F9CC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F5C37-CA25-4851-BF9D-A26B00F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38D18-BFFF-4AF8-B4B1-5B8F9A1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BF8-9EEA-4563-B980-D1945B5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E7858-2EE9-42E4-82AC-52060AB7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3483A-530A-4BB2-B34B-6A9091D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9B44D-0E6E-4E6D-B401-5EF0949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414E7-85CF-457F-AAF0-A15CF382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39B31-BEA9-464B-96CD-9DF58AB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BABA3-A281-4512-A142-C1900047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DA2B9-2323-485F-A370-932E7CD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4495-0BF0-42CA-89DA-D5D4604D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FB7D-EE75-4AB0-A3F2-74CC45E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A6A6-A046-4E27-AFF1-0863E3EC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F27-0178-472E-851A-AED272C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E921-578B-484D-A266-E7DE3447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A9F5-9236-4E24-9EF1-358603A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96C8-DA38-4ABE-8E23-FCEBC5D3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9F87-7525-4928-9E7A-4E79D1A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E73A-5E86-4EE4-9FB2-8097834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62C1-0B8D-48F8-A7DF-B1C8E80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5DAB-F313-4C77-88D8-D4943568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F852-7ED4-4ADD-A8B3-9B8B9696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75E6-3419-4739-93BE-5AABD72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947A1-4466-4C45-8CD7-9C4F431F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4AD-2CA7-489F-B66F-7CF9DD1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9AF8F-0733-49DB-AC25-1C8E2FC0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F731A-717F-4711-BD1D-799C81A5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9B5DF-1B42-4EF4-805C-74D6BEA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4393E-9678-4B17-A279-DA4D1467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63811-40FF-4090-9E0D-7FB08AC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A9311-2321-4308-BCDA-55450F62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B5CE9-9EBB-4B25-9D90-F885A53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4D93D-B7C4-49E2-AB76-F2929B0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6AC06-C4A8-4B61-9160-6B9F13A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51520-8E72-4FEC-A489-B9E836BF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885-E6CB-4964-AADA-9ACCA83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891D7-A038-4837-825E-1C804AC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B8DA7-5DA2-4CC7-AE7D-2B77C08F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9988C-AB01-4988-85CD-D5D46D0B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BF51D-F5A7-4F52-AD02-180F6515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AEAD9-65C3-4D53-8B47-E49D037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315E4-384A-48EB-8FD8-9F12308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BDD76-0F06-47A2-8470-A60A82F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D906B-536A-40B9-932B-CC74351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ED058-1F88-4E61-B6C6-9D253B0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AB968-F7F2-4031-8957-C7ACB42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F75-EA47-447A-8D9D-AD1C6F3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01329-C824-4591-B518-05300C0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28FDD-9A73-4737-87DC-8BDB2E24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D1ECC-C523-4C8F-A6A1-76B8152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C949C-B21F-4AEB-A76B-35195427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0B2C6-E1BD-495D-805A-04F49553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1DCFC-B9ED-49A9-B91C-13CC5A9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051E0-6FB4-47B4-9970-47D635D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435D8-1CF9-4311-AD88-D34CFCE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9A6FD-BE4D-4E0A-9013-A703AF8D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B65F5-3B8B-474E-87A4-80C7185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91C-A20E-4642-A4CC-F138E47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1359D-222E-459A-BC5A-8E145AB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2C1C4-39A0-408D-9828-39DB874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6F399-AE0E-4E1F-8AC3-F10DA6E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6857A-D1AC-40A4-8404-EB048356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B115A-EB45-4184-A137-CC775E84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5AD-4BAA-4340-8B15-0B6ABDA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6E7-6EAC-4B32-8693-BEBB4BBA650D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églalap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églalap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églalap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Egyenes összekötő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Egyenes összekötő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Egyenes összekötő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Egyenes összekötő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Egyenes összekötő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Egyenes összekötő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églalap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zi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zi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zi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zi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zi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4FF-F6B1-4ED9-B797-DAA78ADD697B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6BE-F547-41F8-A582-5187B9293521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églalap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églalap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églalap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églalap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Egyenes összekötő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Egyenes összekötő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Egyenes összekötő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Egyenes összekötő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Egyenes összekötő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églalap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zi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zi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zi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zi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zi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Egyenes összekötő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C5DA-9825-4FBC-A790-F428C0C6C008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CF7-7DF6-4121-956C-B77BE40CA512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gyenes összekötő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Egyenes összekötő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Egyenes összekötő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Egyenes összekötő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églalap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Egyenes összekötő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zi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4D8-071B-4816-B4ED-974023F80475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gyenes összekötő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zi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Egyenes összekötő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églalap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Egyenes összekötő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Egyenes összekötő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Egyenes összekötő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1784-4071-4E50-BDEF-F3D12D82D5D8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3097080" y="216360"/>
            <a:ext cx="470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GROUP NAME: The Lad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MEMBERS: </a:t>
            </a:r>
            <a:r>
              <a:rPr b="1" i="1" lang="hu-HU" sz="20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Bartha Andrea, Csép King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357280" y="2076120"/>
            <a:ext cx="584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Little-Red-Riding-Hood 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the Tig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zövegdoboz 5"/>
          <p:cNvSpPr/>
          <p:nvPr/>
        </p:nvSpPr>
        <p:spPr>
          <a:xfrm>
            <a:off x="2815200" y="542916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3b7e"/>
                </a:solidFill>
                <a:latin typeface="Trebuchet MS"/>
              </a:rPr>
              <a:t>Group I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Kép 6" descr="piroska-es-farkas-1.jpg"/>
          <p:cNvPicPr/>
          <p:nvPr/>
        </p:nvPicPr>
        <p:blipFill>
          <a:blip r:embed="rId1"/>
          <a:stretch/>
        </p:blipFill>
        <p:spPr>
          <a:xfrm>
            <a:off x="5830920" y="3143160"/>
            <a:ext cx="2927160" cy="3714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14360" y="4428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ONCE UPON A TIME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WHEN THE WORLD WAS YOUNG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RE WAS LITTLE-RED-RIDING-HOOD. SHE WAS A SMART AND CHARITABLE LITTLE GIRL. SHE LOVED HER KIND GRANDMOTHER.</a:t>
            </a:r>
            <a:endParaRPr b="0" lang="en-US" sz="2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56" name="Kép 3" descr="redriding1.jpg"/>
          <p:cNvPicPr/>
          <p:nvPr/>
        </p:nvPicPr>
        <p:blipFill>
          <a:blip r:embed="rId1"/>
          <a:stretch/>
        </p:blipFill>
        <p:spPr>
          <a:xfrm>
            <a:off x="2500200" y="0"/>
            <a:ext cx="4786560" cy="478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14360" y="4142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SHE AND HER GRANDMOTHER TRAVELLED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INTO THE WILD.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Y MET THE EVIL TIGRE. THE TIGRE ATE LITTLE-RED-RIDING-HOOD IN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ESS THAN A MOMENT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. THE GRANDMOTHER RAN AWAY, BUT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IVED IN A CONTINUAL STATE OF FEAR</a:t>
            </a:r>
            <a:endParaRPr b="0" lang="en-US" sz="2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58" name="Kép 3" descr="tigre-8975.jpg"/>
          <p:cNvPicPr/>
          <p:nvPr/>
        </p:nvPicPr>
        <p:blipFill>
          <a:blip r:embed="rId1"/>
          <a:stretch/>
        </p:blipFill>
        <p:spPr>
          <a:xfrm>
            <a:off x="2357280" y="2142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5640" y="4214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One day Grandmother met the strong hunter, who was always ready to help others. The Hunter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listened to Grandmother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’s story and invented a way to </a:t>
            </a:r>
            <a:r>
              <a:rPr b="1" i="1" lang="en-US" sz="2000" spc="-1" strike="noStrike">
                <a:solidFill>
                  <a:srgbClr val="852f74"/>
                </a:solidFill>
                <a:latin typeface="Trebuchet MS"/>
              </a:rPr>
              <a:t>catch the Tigre in a trap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The smart Hunter found the mean Tigre , caught it in a trap and freed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Little-Red-Riding-Hoo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Kép 3" descr="0511-0810-2715-0524_Hillbilly_Hunter_clipart_image.png"/>
          <p:cNvPicPr/>
          <p:nvPr/>
        </p:nvPicPr>
        <p:blipFill>
          <a:blip r:embed="rId1"/>
          <a:stretch/>
        </p:blipFill>
        <p:spPr>
          <a:xfrm>
            <a:off x="3429000" y="428760"/>
            <a:ext cx="295920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 Grandmother and Little-Red-Riding-Hood became friends with the Hunter, they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ived happily ever after. And so it was ove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Kép 3" descr="3.jpg"/>
          <p:cNvPicPr/>
          <p:nvPr/>
        </p:nvPicPr>
        <p:blipFill>
          <a:blip r:embed="rId1"/>
          <a:stretch/>
        </p:blipFill>
        <p:spPr>
          <a:xfrm>
            <a:off x="2538360" y="684360"/>
            <a:ext cx="6000840" cy="4037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églalap 3" descr=""/>
          <p:cNvPicPr/>
          <p:nvPr/>
        </p:nvPicPr>
        <p:blipFill>
          <a:blip r:embed="rId1"/>
          <a:stretch/>
        </p:blipFill>
        <p:spPr>
          <a:xfrm>
            <a:off x="2127240" y="469800"/>
            <a:ext cx="5621400" cy="1103400"/>
          </a:xfrm>
          <a:prstGeom prst="rect">
            <a:avLst/>
          </a:prstGeom>
          <a:ln w="0">
            <a:noFill/>
          </a:ln>
        </p:spPr>
      </p:pic>
      <p:pic>
        <p:nvPicPr>
          <p:cNvPr id="364" name="Kép 4" descr="P1010349.JPG"/>
          <p:cNvPicPr/>
          <p:nvPr/>
        </p:nvPicPr>
        <p:blipFill>
          <a:blip r:embed="rId2"/>
          <a:stretch/>
        </p:blipFill>
        <p:spPr>
          <a:xfrm>
            <a:off x="2286000" y="19288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04:47Z</dcterms:created>
  <dc:creator>abc</dc:creator>
  <dc:description/>
  <dc:language>en-US</dc:language>
  <cp:lastModifiedBy>abc</cp:lastModifiedBy>
  <dcterms:modified xsi:type="dcterms:W3CDTF">2010-02-23T21:41:58Z</dcterms:modified>
  <cp:revision>4</cp:revision>
  <dc:subject/>
  <dc:title>1. dia</dc:title>
</cp:coreProperties>
</file>